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5.wmf" ContentType="image/x-wmf"/>
  <Override PartName="/ppt/media/breeze.wav" ContentType="audio/x-wav"/>
  <Override PartName="/ppt/media/image9.png" ContentType="image/png"/>
  <Override PartName="/ppt/media/image15.gif" ContentType="image/gif"/>
  <Override PartName="/ppt/media/image14.gif" ContentType="image/gif"/>
  <Override PartName="/ppt/media/image13.png" ContentType="image/png"/>
  <Override PartName="/ppt/media/chimes.wav" ContentType="audio/x-wav"/>
  <Override PartName="/ppt/media/image8.png" ContentType="image/png"/>
  <Override PartName="/ppt/media/image1.wmf" ContentType="image/x-wmf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624-FE82-4CEF-870F-57EF2D96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B4F-E0E2-4EDF-B217-6B7C3123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F45-7283-4E14-B100-1B2BF62D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712-4F33-4F36-AE4C-A7494958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A874-8762-49EA-94F0-F41BB2EF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E7E1-41C8-4CB7-8475-ADC77BA6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85D0-9879-4D56-BF81-12826B5C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6A14-8BC1-4F20-83A1-71B96ED2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5175-D78D-4D29-A1E6-5B13971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009A-786D-4C57-AFED-5D9D5BB3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AAA7-0E0D-4404-82B7-6658F2CA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B56-FD37-4885-9946-B191AFBA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24E8-B02C-40BE-84CF-14EB0025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FED1-F5E0-4B98-810A-DFD4CE84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1F37-73FC-450B-9B42-41A3E41A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547D-F652-4339-BCCD-6DCBCE09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91BE-FAB6-417C-B6B6-214FFC33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D70C-3B61-4706-BB4A-7FBE5B93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C66F9-B486-4973-8A87-37B151EF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E124-28F6-407C-9B03-94548F47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8A1D-BA0C-47F0-AD99-FA5CBD7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F86F-FFED-4816-9661-8886473A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652-2BB5-4FD9-A7D6-86FE6DDE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9928-5599-422E-B1E8-885864D9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9664-FC65-41AF-B7A6-A88978C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E560-87F1-4E18-84CB-87EF175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7A39-979C-4AD0-AE76-6414909A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E0F0-769C-4E27-BDA9-F29C6BE1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D526-A9BE-45DB-A663-D9A1ADE4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2E62-FE7D-453E-A8E0-F17758DD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86C-FEAE-452A-BC23-2A654AF2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E54-5891-4D93-8447-ABEED31A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CEA-9EE1-48E5-9244-DB5172B5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83C-00B1-42F2-B6C1-11BA6CB0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FFF-CDC2-4970-A221-A266B44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9B8-15A7-4C28-806A-F06C2B49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27AA-8D64-47CA-A438-4497D81EBB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CA8F-2439-4AA4-829A-6F16FFE0FB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6C5-150F-4C11-A93A-2091C2FAF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audio" Target="../media/breeze.wav"/><Relationship Id="rId8" Type="http://schemas.openxmlformats.org/officeDocument/2006/relationships/audio" Target="../media/chimes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2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42920" y="404640"/>
            <a:ext cx="3889440" cy="2664000"/>
          </a:xfrm>
          <a:prstGeom prst="wedgeRoundRectCallout">
            <a:avLst>
              <a:gd name="adj1" fmla="val -18814"/>
              <a:gd name="adj2" fmla="val 99226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cuerd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 computadora es una herramienta que nos ayuda a facilitar nuestro trabaj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3020760" cy="2922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227640" y="2852640"/>
            <a:ext cx="2016360" cy="1513080"/>
          </a:xfrm>
          <a:prstGeom prst="wedgeEllipseCallout">
            <a:avLst>
              <a:gd name="adj1" fmla="val -68189"/>
              <a:gd name="adj2" fmla="val 91865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Arial"/>
              </a:rPr>
              <a:t>Ohoo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2593800" cy="2594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050920" y="3905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0920" y="3429000"/>
            <a:ext cx="2268360" cy="792000"/>
          </a:xfrm>
          <a:prstGeom prst="wedgeRoundRectCallout">
            <a:avLst>
              <a:gd name="adj1" fmla="val 48879"/>
              <a:gd name="adj2" fmla="val 16322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mm… bueno, eso esper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5435640" y="3284640"/>
            <a:ext cx="2781360" cy="3573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08000" y="0"/>
            <a:ext cx="2698920" cy="1008000"/>
          </a:xfrm>
          <a:prstGeom prst="wedgeRoundRectCallout">
            <a:avLst>
              <a:gd name="adj1" fmla="val -16472"/>
              <a:gd name="adj2" fmla="val 27614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Verdana"/>
              </a:rPr>
              <a:t>Hola Profe Benjamín ¿Cómo ha estado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333360"/>
            <a:ext cx="3889440" cy="647640"/>
          </a:xfrm>
          <a:prstGeom prst="wedgeRoundRectCallout">
            <a:avLst>
              <a:gd name="adj1" fmla="val 11916"/>
              <a:gd name="adj2" fmla="val 544115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99"/>
                </a:solidFill>
                <a:latin typeface="Verdana"/>
              </a:rPr>
              <a:t>Muy bien alumnita Yadira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99"/>
                </a:solidFill>
                <a:latin typeface="Verdana"/>
              </a:rPr>
              <a:t>¿ Y usted como has estado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1557360"/>
            <a:ext cx="2195640" cy="1512720"/>
          </a:xfrm>
          <a:prstGeom prst="wedgeRoundRectCallout">
            <a:avLst>
              <a:gd name="adj1" fmla="val 79138"/>
              <a:gd name="adj2" fmla="val 65212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Verdana"/>
              </a:rPr>
              <a:t>Bien, me ha costado mucho trabajo este comic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4560" y="1557360"/>
            <a:ext cx="3889440" cy="647640"/>
          </a:xfrm>
          <a:prstGeom prst="wedgeRoundRectCallout">
            <a:avLst>
              <a:gd name="adj1" fmla="val -939"/>
              <a:gd name="adj2" fmla="val 328430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99"/>
                </a:solidFill>
                <a:latin typeface="Arial"/>
              </a:rPr>
              <a:t>Estoy seguro que realizaste un buen trabaj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4560" y="2565360"/>
            <a:ext cx="3889440" cy="1008000"/>
          </a:xfrm>
          <a:prstGeom prst="wedgeRoundRectCallout">
            <a:avLst>
              <a:gd name="adj1" fmla="val -32939"/>
              <a:gd name="adj2" fmla="val 5551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99"/>
                </a:solidFill>
                <a:latin typeface="Verdana"/>
              </a:rPr>
              <a:t>Muy bien tien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332000" y="0"/>
            <a:ext cx="6767280" cy="6767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85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5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65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85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85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85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85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l tema del día de hoy 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308720" y="5157720"/>
            <a:ext cx="1406520" cy="141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067280" y="1628640"/>
            <a:ext cx="3889440" cy="2664000"/>
          </a:xfrm>
          <a:prstGeom prst="wedgeRoundRectCallout">
            <a:avLst>
              <a:gd name="adj1" fmla="val -70449"/>
              <a:gd name="adj2" fmla="val 44041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Como guardar un documento en un disquete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sta herramienta nos va a ayudar a conservar nuestros documentos y los podemos utilizar todas las veces que nosotros deseemo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7000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4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374920" y="1781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72000" y="620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80"/>
                </a:solidFill>
                <a:latin typeface="Comic Sans MS"/>
              </a:rPr>
              <a:t>Solo aparece presentación 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95640" y="1628640"/>
            <a:ext cx="2198520" cy="4320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00720" y="1052640"/>
            <a:ext cx="2154240" cy="7920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2556000" cy="2555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260280"/>
            <a:ext cx="3889440" cy="1008000"/>
          </a:xfrm>
          <a:prstGeom prst="wedgeRoundRectCallout">
            <a:avLst>
              <a:gd name="adj1" fmla="val -19916"/>
              <a:gd name="adj2" fmla="val 271731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99"/>
                </a:solidFill>
                <a:latin typeface="Verdana"/>
              </a:rPr>
              <a:t>Observa  la  barra de títulos, no tiene nombre el document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11000">
    <p:wheel spokes="2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4000" y="333360"/>
            <a:ext cx="4319280" cy="863640"/>
          </a:xfrm>
          <a:prstGeom prst="wedgeRoundRectCallout">
            <a:avLst>
              <a:gd name="adj1" fmla="val -11629"/>
              <a:gd name="adj2" fmla="val 340625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99"/>
                </a:solidFill>
                <a:latin typeface="Verdana"/>
              </a:rPr>
              <a:t>1.- Para poder guardarlo, debes dar un clic en el </a:t>
            </a: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menú Archiv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2565360"/>
            <a:ext cx="4319280" cy="863640"/>
          </a:xfrm>
          <a:prstGeom prst="wedgeRoundRectCallout">
            <a:avLst>
              <a:gd name="adj1" fmla="val 15564"/>
              <a:gd name="adj2" fmla="val 181986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99"/>
                </a:solidFill>
                <a:latin typeface="Verdana"/>
              </a:rPr>
              <a:t>2.-  Y después elegir el submenú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bf7ff"/>
                </a:solidFill>
                <a:latin typeface="Verdana"/>
              </a:rPr>
              <a:t>       </a:t>
            </a: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Guardar Cóm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076720" y="1628640"/>
          <a:ext cx="351792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628640"/>
                    <a:ext cx="351792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228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907920"/>
            <a:ext cx="1366920" cy="64944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08720" y="1628640"/>
            <a:ext cx="1224000" cy="4320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00" y="3933720"/>
            <a:ext cx="3311640" cy="6494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8360" y="3689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843280" y="3141720"/>
            <a:ext cx="2449440" cy="10080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3000">
    <p:split dir="in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843280" y="2276640"/>
          <a:ext cx="597204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597204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 flipH="1">
            <a:off x="4211280" y="836640"/>
            <a:ext cx="2376360" cy="129708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2203560"/>
            <a:ext cx="1366920" cy="4316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3718080"/>
            <a:ext cx="2771640" cy="2771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333360"/>
            <a:ext cx="8351640" cy="863640"/>
          </a:xfrm>
          <a:prstGeom prst="wedgeRoundRectCallout">
            <a:avLst>
              <a:gd name="adj1" fmla="val -42699"/>
              <a:gd name="adj2" fmla="val 332902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Verdana"/>
              </a:rPr>
              <a:t>Aparece la caja de diálogo </a:t>
            </a:r>
            <a:r>
              <a:rPr b="0" lang="es-ES_tradnl" sz="2400" spc="-1" strike="noStrike">
                <a:solidFill>
                  <a:srgbClr val="008080"/>
                </a:solidFill>
                <a:latin typeface="Verdana"/>
              </a:rPr>
              <a:t>guardar cóm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-74880" y="380880"/>
            <a:ext cx="51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1  .- Da un clic en el menú colgan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0" y="1413000"/>
            <a:ext cx="56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2.- Y después un clic en el </a:t>
            </a:r>
            <a:r>
              <a:rPr b="0" lang="es-ES_tradnl" sz="2400" spc="-1" strike="noStrike">
                <a:solidFill>
                  <a:srgbClr val="66ccff"/>
                </a:solidFill>
                <a:latin typeface="Comic Sans MS"/>
              </a:rPr>
              <a:t>Disco 3 ½ 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29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3152880" y="2565360"/>
          <a:ext cx="5991120" cy="37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52880" y="2565360"/>
                    <a:ext cx="599112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4859280" y="1916280"/>
            <a:ext cx="1101960" cy="187308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60880" y="3789360"/>
            <a:ext cx="1366920" cy="4316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3640" y="620640"/>
            <a:ext cx="1460520" cy="22320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6880" y="2781360"/>
            <a:ext cx="505080" cy="2872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72240" y="13716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2.-   Ahora </a:t>
            </a:r>
            <a:r>
              <a:rPr b="0" lang="es-ES_tradnl" sz="2400" spc="-1" strike="noStrike">
                <a:solidFill>
                  <a:srgbClr val="66ccff"/>
                </a:solidFill>
                <a:latin typeface="Times New Roman"/>
              </a:rPr>
              <a:t>ponle nombre al documento,</a:t>
            </a:r>
            <a:r>
              <a:rPr b="0" lang="es-ES_tradnl" sz="2400" spc="-1" strike="noStrike">
                <a:solidFill>
                  <a:srgbClr val="ebf7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 ayudándote con el teclad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6200" y="53352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1.-    Dale un clic y borra lo escrito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7720" y="1981080"/>
            <a:ext cx="72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En éste caso el documento se llama  </a:t>
            </a:r>
            <a:r>
              <a:rPr b="0" lang="es-ES_tradnl" sz="2400" spc="-1" strike="noStrike" u="sng">
                <a:solidFill>
                  <a:srgbClr val="006699"/>
                </a:solidFill>
                <a:uFillTx/>
                <a:latin typeface="Times New Roman"/>
              </a:rPr>
              <a:t>“Mariposa Monarca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476360" y="2708280"/>
          <a:ext cx="59533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59533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 flipH="1">
            <a:off x="4788000" y="2421000"/>
            <a:ext cx="2520720" cy="36003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5805360"/>
            <a:ext cx="2303640" cy="4320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0" y="515772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6000"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1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2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2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06200" y="476280"/>
            <a:ext cx="49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Dale un clic en el </a:t>
            </a:r>
            <a:r>
              <a:rPr b="1" lang="es-ES_tradnl" sz="2400" spc="-1" strike="noStrike">
                <a:solidFill>
                  <a:srgbClr val="66ccff"/>
                </a:solidFill>
                <a:latin typeface="Comic Sans MS"/>
              </a:rPr>
              <a:t>botón Guarda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79640" y="1700280"/>
          <a:ext cx="59529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00280"/>
                    <a:ext cx="59529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445080" y="907920"/>
            <a:ext cx="935280" cy="38163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4797360"/>
            <a:ext cx="1079640" cy="4320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68360" y="530064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checker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2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208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209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82600" y="1523880"/>
            <a:ext cx="735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Y quieres </a:t>
            </a:r>
            <a:r>
              <a:rPr b="0" lang="es-ES_tradnl" sz="2400" spc="-1" strike="noStrike">
                <a:solidFill>
                  <a:srgbClr val="66ccff"/>
                </a:solidFill>
                <a:latin typeface="Comic Sans MS"/>
              </a:rPr>
              <a:t>guardar los cambios</a:t>
            </a: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, como pueden ser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Tipo de letra, tamaño, color, insertar una imagen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56520" y="560520"/>
            <a:ext cx="59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“</a:t>
            </a:r>
            <a:r>
              <a:rPr b="0" lang="es-ES_tradnl" sz="2800" spc="-1" strike="noStrike" u="sng">
                <a:solidFill>
                  <a:srgbClr val="006699"/>
                </a:solidFill>
                <a:uFillTx/>
                <a:latin typeface="Comic Sans MS"/>
              </a:rPr>
              <a:t>Si ya tiene nombre el documento</a:t>
            </a:r>
            <a:r>
              <a:rPr b="0" lang="es-ES_tradnl" sz="2800" spc="-1" strike="noStrike">
                <a:solidFill>
                  <a:srgbClr val="0066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61920" y="6035760"/>
            <a:ext cx="56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Solo da un </a:t>
            </a:r>
            <a:r>
              <a:rPr b="0" lang="es-ES_tradnl" sz="2400" spc="-1" strike="noStrike" u="sng">
                <a:solidFill>
                  <a:srgbClr val="66ccff"/>
                </a:solidFill>
                <a:uFillTx/>
                <a:latin typeface="Comic Sans MS"/>
              </a:rPr>
              <a:t>clic en el icono de guarda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00200" y="2743200"/>
          <a:ext cx="640080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64008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2514600" y="3200400"/>
            <a:ext cx="1523880" cy="12952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676920" y="4876920"/>
          <a:ext cx="188748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6920" y="4876920"/>
                    <a:ext cx="1887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72360" y="4648320"/>
            <a:ext cx="2438280" cy="22096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058920" y="2708280"/>
            <a:ext cx="1873080" cy="7207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407664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8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9:41:58Z</dcterms:created>
  <dc:creator>a2m04</dc:creator>
  <dc:description/>
  <dc:language>en-US</dc:language>
  <cp:lastModifiedBy>a2m05</cp:lastModifiedBy>
  <dcterms:modified xsi:type="dcterms:W3CDTF">2006-07-14T09:37:01Z</dcterms:modified>
  <cp:revision>87</cp:revision>
  <dc:subject/>
  <dc:title>Diapositiva 1</dc:title>
</cp:coreProperties>
</file>